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789-0660-4A7B-8242-655AA4A3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62E-CEB2-4133-9F9C-89611345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BC7-C433-4475-A265-495DB460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D68-4956-4BA7-B1D4-278AA564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E5B-545A-44C6-B31B-46B6A1EE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9E5-834F-4444-8432-63C1BF42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CD0-7C4B-4ECB-A1E5-3105CE11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B0E-CF48-4721-A20E-A3AFA9AD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1A8-DEAC-4D6B-96DF-5C1E9FB5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E64A-4DD6-4047-86E8-176395CA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B14-1386-421E-8416-30DE0FC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9EB-69D6-42AF-BC4F-B28EE1B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A726-3C44-44BF-B287-EA9C48452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Boiscl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lassification pertains to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lack a membrane bound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receives materials from the endoplasm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iculum and sends them to other parts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LGI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lassification pertains to cells that have a membr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nd nucleus as well as specialized organel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EU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directs all of the cells activ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re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heory states three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All living things are composed of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ells are the basic unit of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unction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ll cells are made from other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CEL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ientist concluded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nimals are composed of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ientist was one of the first peopl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single celled organisms we now called bac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is LEEUWEN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n concluded that all plants are made of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is SCHL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chow concluded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all cells are made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 one of the first people to observe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is HO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strument uses tiny beams of electr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learly magnify i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is able to distinguish individual parts of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it is said to have high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type of instrument that bends ligh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fy images and has *multiple* l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ructure helps in protec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iving structure to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CELL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is a network of passageways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y materials from one part of the cell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OPLASMIC RET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is much bigger in plant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in animal cells. It also aids in cell survi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VACU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rganelle which is the “powerhouse”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ere cell energy is produc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iny factory like structures that produce prote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cell is found in humans, dogs, turtles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NIMA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lasts and cell wall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in which type of c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.</cp:lastModifiedBy>
  <cp:lastPrinted>2001-01-31T16:21:13Z</cp:lastPrinted>
  <dcterms:modified xsi:type="dcterms:W3CDTF">2008-02-06T02:49:20Z</dcterms:modified>
  <cp:revision>64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